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747E-68CB-4A7A-A60E-42CA3DDA0F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0B9D-87F6-4504-AA80-5A6C937369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B126-434D-4A25-B878-AA2C8A0F23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697C-7F4D-4AB4-B2A2-B1167AACD5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9B17-AC40-4911-B1E0-EE96C7EEBD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7510-C083-47F9-8D29-9AAB311E74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C013-7123-4196-A2D8-B7901E78C6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E51C-C490-4805-B8AA-DC5F1FC24D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DFD2-0E2F-41C5-AFA0-F449879D4F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A4D7-3DE2-4EAA-BAED-062A8132B5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6A4-EA6D-486A-AA21-7BD9A974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87E-AE09-42AE-B410-071375E0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381-297E-428B-AF52-9839FCCB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6EF-92C6-413D-B683-632D0BF0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4469-E891-4451-A497-CF112E9D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6BEB-F705-4F79-B7DB-ADA087A2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6CFA-4CCC-414F-BD48-8170D775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BB3F-649E-496E-B9F8-DC2CBA9B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3022-A7F2-49FD-9EC3-CF2A6AF2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EEF8-AC93-433C-B3B2-33671C6F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D545-A6A2-4642-B7B8-AFD30400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89F-B5AF-4B8D-BD62-E159A01A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FCB0-687D-4846-8227-C0579EB3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112F-C4B2-4909-B74E-7FA8C16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0AEF-E4A5-4490-992C-961B1472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C87C-C2DF-46F1-9189-FE782D7A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6D27-EA2A-4041-9395-F55D3952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A60-B243-47F8-9D05-1BECEAA7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A92-6396-4B69-A5CE-DFE60975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4FF-E026-4885-80C7-89B65338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439-FB10-4634-87AA-AF176BE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01E-95CE-4F9F-BFFE-64B908EC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6BE-DB9C-478C-BD53-6F9F2D62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761-B8A0-4252-AFD0-A39D67C7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6B17-953C-40F1-8312-09A156F48C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5F6C-96AC-484C-A394-E2B7FC824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7143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В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072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6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6929640" cy="1300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5572080" y="278604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5571360" y="2500200"/>
            <a:ext cx="714600" cy="13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4"/>
          <p:cNvSpPr/>
          <p:nvPr/>
        </p:nvSpPr>
        <p:spPr>
          <a:xfrm>
            <a:off x="5715000" y="235728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6"/>
          <p:cNvSpPr/>
          <p:nvPr/>
        </p:nvSpPr>
        <p:spPr>
          <a:xfrm>
            <a:off x="5857200" y="2357280"/>
            <a:ext cx="500040" cy="10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8"/>
          <p:cNvSpPr/>
          <p:nvPr/>
        </p:nvSpPr>
        <p:spPr>
          <a:xfrm>
            <a:off x="6000840" y="2286000"/>
            <a:ext cx="3571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32"/>
          <p:cNvSpPr/>
          <p:nvPr/>
        </p:nvSpPr>
        <p:spPr>
          <a:xfrm>
            <a:off x="5572080" y="3143160"/>
            <a:ext cx="2858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34"/>
          <p:cNvSpPr/>
          <p:nvPr/>
        </p:nvSpPr>
        <p:spPr>
          <a:xfrm>
            <a:off x="4500720" y="257184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6"/>
          <p:cNvSpPr/>
          <p:nvPr/>
        </p:nvSpPr>
        <p:spPr>
          <a:xfrm>
            <a:off x="4500720" y="242892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8"/>
          <p:cNvSpPr/>
          <p:nvPr/>
        </p:nvSpPr>
        <p:spPr>
          <a:xfrm>
            <a:off x="457200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40"/>
          <p:cNvSpPr/>
          <p:nvPr/>
        </p:nvSpPr>
        <p:spPr>
          <a:xfrm>
            <a:off x="4572000" y="29289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2"/>
          <p:cNvSpPr/>
          <p:nvPr/>
        </p:nvSpPr>
        <p:spPr>
          <a:xfrm>
            <a:off x="4572000" y="30718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Соединительная линия уступом 44"/>
          <p:cNvCxnSpPr/>
          <p:nvPr/>
        </p:nvCxnSpPr>
        <p:spPr>
          <a:xfrm>
            <a:off x="4572000" y="328572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0" name="Прямая соединительная линия 46"/>
          <p:cNvSpPr/>
          <p:nvPr/>
        </p:nvSpPr>
        <p:spPr>
          <a:xfrm>
            <a:off x="457200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8"/>
          <p:cNvSpPr/>
          <p:nvPr/>
        </p:nvSpPr>
        <p:spPr>
          <a:xfrm>
            <a:off x="457200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50"/>
          <p:cNvSpPr/>
          <p:nvPr/>
        </p:nvSpPr>
        <p:spPr>
          <a:xfrm>
            <a:off x="457200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52"/>
          <p:cNvSpPr/>
          <p:nvPr/>
        </p:nvSpPr>
        <p:spPr>
          <a:xfrm>
            <a:off x="33577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4"/>
          <p:cNvSpPr/>
          <p:nvPr/>
        </p:nvSpPr>
        <p:spPr>
          <a:xfrm>
            <a:off x="3429000" y="221472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6"/>
          <p:cNvSpPr/>
          <p:nvPr/>
        </p:nvSpPr>
        <p:spPr>
          <a:xfrm>
            <a:off x="3429000" y="2214720"/>
            <a:ext cx="100008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8"/>
          <p:cNvSpPr/>
          <p:nvPr/>
        </p:nvSpPr>
        <p:spPr>
          <a:xfrm>
            <a:off x="3357000" y="2143080"/>
            <a:ext cx="92844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60"/>
          <p:cNvSpPr/>
          <p:nvPr/>
        </p:nvSpPr>
        <p:spPr>
          <a:xfrm>
            <a:off x="3429000" y="2214720"/>
            <a:ext cx="64296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62"/>
          <p:cNvSpPr/>
          <p:nvPr/>
        </p:nvSpPr>
        <p:spPr>
          <a:xfrm>
            <a:off x="3428280" y="221472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64"/>
          <p:cNvSpPr/>
          <p:nvPr/>
        </p:nvSpPr>
        <p:spPr>
          <a:xfrm>
            <a:off x="3428280" y="228600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14"/>
          <p:cNvSpPr/>
          <p:nvPr/>
        </p:nvSpPr>
        <p:spPr>
          <a:xfrm flipH="1">
            <a:off x="50720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16"/>
          <p:cNvSpPr/>
          <p:nvPr/>
        </p:nvSpPr>
        <p:spPr>
          <a:xfrm flipH="1">
            <a:off x="492876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18"/>
          <p:cNvSpPr/>
          <p:nvPr/>
        </p:nvSpPr>
        <p:spPr>
          <a:xfrm flipH="1">
            <a:off x="478584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20"/>
          <p:cNvSpPr/>
          <p:nvPr/>
        </p:nvSpPr>
        <p:spPr>
          <a:xfrm flipH="1">
            <a:off x="46429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22"/>
          <p:cNvSpPr/>
          <p:nvPr/>
        </p:nvSpPr>
        <p:spPr>
          <a:xfrm flipH="1">
            <a:off x="535788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26"/>
          <p:cNvSpPr/>
          <p:nvPr/>
        </p:nvSpPr>
        <p:spPr>
          <a:xfrm flipH="1">
            <a:off x="521496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2151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71928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714680" y="2500200"/>
            <a:ext cx="7284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1785960" y="1857240"/>
            <a:ext cx="708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71913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12T18:56:49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